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1.jpeg" ContentType="image/jpeg"/>
  <Override PartName="/ppt/media/image47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31.png" ContentType="image/png"/>
  <Override PartName="/ppt/media/image29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51.png" ContentType="image/png"/>
  <Override PartName="/ppt/media/image40.png" ContentType="image/png"/>
  <Override PartName="/ppt/media/image52.png" ContentType="image/png"/>
  <Override PartName="/ppt/media/image41.png" ContentType="image/png"/>
  <Override PartName="/ppt/media/image53.png" ContentType="image/png"/>
  <Override PartName="/ppt/media/image42.png" ContentType="image/png"/>
  <Override PartName="/ppt/media/image54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4.png" ContentType="image/png"/>
  <Override PartName="/ppt/media/image34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6.png" ContentType="image/png"/>
  <Override PartName="/ppt/media/image36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85683-BB9F-4B6D-8E78-96E7DADCA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742680" y="190512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742680" y="40546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665BB-A8FC-4191-B4A7-2222CFCA7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742680" y="190512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5057280" y="190512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742680" y="40546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5057280" y="40546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32A5D-C00C-4E7B-9C4D-84798CA1C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42680" y="190512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589920" y="190512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436800" y="190512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742680" y="40546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589920" y="40546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436800" y="40546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B8261-F6CA-47E9-A7B4-EFF9BFBFE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453C2-AF3E-4CF7-9C95-BDA698E7E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742680" y="190512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13122-D0C4-4E6A-A934-FE8318BD6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42680" y="190512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229E1-8A88-4C1B-AD64-806B771AD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742680" y="190512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57280" y="190512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5FCE8-F199-4D18-8A25-173B14D62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DAA32-C253-4A46-AEC4-13B86026D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742680" y="22824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07D21-E4E3-4F7F-B68F-C82B42854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742680" y="190512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057280" y="190512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742680" y="40546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64168-DE18-4974-BB1B-09E349502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742680" y="190512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87F7B-AC29-4CE3-8431-7BEA20910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42680" y="190512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057280" y="190512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5057280" y="40546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B34A9-763E-4E10-AA58-351F409C0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42680" y="190512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057280" y="190512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742680" y="40546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A07C1-890D-4508-A311-2095A0E0B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42680" y="190512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742680" y="40546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50A7E-2485-42E4-BC6D-8F4653BDA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42680" y="190512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057280" y="190512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742680" y="40546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5057280" y="40546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5290A-AE97-4592-B190-A41240A90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42680" y="190512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589920" y="190512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436800" y="190512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742680" y="40546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3589920" y="40546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6436800" y="40546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CAB1D-661E-47C7-97C4-9164D06BD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42680" y="190512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0AAA2-F3E4-4FE9-A8A6-CE399CBB6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0512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0512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550D8-0833-4BCA-9503-FFD526E68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99177-FF2E-4DC9-8A25-8B0DFD32D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742680" y="22824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7E870-0656-4008-A173-754F056CA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42680" y="190512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57280" y="190512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742680" y="40546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A78DA-7124-483F-87AA-8FD385995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42680" y="190512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57280" y="190512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57280" y="40546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E2042-8723-4196-8FD3-9165F492C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42680" y="190512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57280" y="190512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42680" y="40546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9BBAE-D2E8-4492-975B-99F668366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7472880" y="5156280"/>
            <a:ext cx="2332440" cy="1364040"/>
            <a:chOff x="7472880" y="5156280"/>
            <a:chExt cx="2332440" cy="1364040"/>
          </a:xfrm>
        </p:grpSpPr>
        <p:sp>
          <p:nvSpPr>
            <p:cNvPr id="1" name=""/>
            <p:cNvSpPr/>
            <p:nvPr/>
          </p:nvSpPr>
          <p:spPr>
            <a:xfrm rot="20940000">
              <a:off x="7511760" y="5919840"/>
              <a:ext cx="495360" cy="457200"/>
            </a:xfrm>
            <a:prstGeom prst="star5">
              <a:avLst/>
            </a:prstGeom>
            <a:gradFill rotWithShape="0">
              <a:gsLst>
                <a:gs pos="0">
                  <a:srgbClr val="563175"/>
                </a:gs>
                <a:gs pos="100000">
                  <a:srgbClr val="bc6cf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332200" y="5353200"/>
              <a:ext cx="453960" cy="419040"/>
            </a:xfrm>
            <a:prstGeom prst="star5">
              <a:avLst/>
            </a:prstGeom>
            <a:gradFill rotWithShape="0">
              <a:gsLst>
                <a:gs pos="0">
                  <a:srgbClr val="563175"/>
                </a:gs>
                <a:gs pos="100000">
                  <a:srgbClr val="bc6cf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8972280" y="5257440"/>
              <a:ext cx="660240" cy="609480"/>
            </a:xfrm>
            <a:prstGeom prst="star5">
              <a:avLst/>
            </a:prstGeom>
            <a:gradFill rotWithShape="0">
              <a:gsLst>
                <a:gs pos="0">
                  <a:srgbClr val="563175"/>
                </a:gs>
                <a:gs pos="100000">
                  <a:srgbClr val="bc6cf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7650720" y="6019920"/>
              <a:ext cx="495360" cy="45720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415000" y="5429160"/>
              <a:ext cx="453960" cy="41904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9054360" y="5410080"/>
              <a:ext cx="660600" cy="60984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742680" y="190512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33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33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2393640" y="637704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4586040" y="640080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7841880" y="640080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F58E2-6451-42CE-B8A5-1D7F99A6C29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412920" y="1219320"/>
            <a:ext cx="8997480" cy="380880"/>
            <a:chOff x="412920" y="1219320"/>
            <a:chExt cx="8997480" cy="380880"/>
          </a:xfrm>
        </p:grpSpPr>
        <p:sp>
          <p:nvSpPr>
            <p:cNvPr id="12" name=""/>
            <p:cNvSpPr/>
            <p:nvPr/>
          </p:nvSpPr>
          <p:spPr>
            <a:xfrm>
              <a:off x="660240" y="1447920"/>
              <a:ext cx="8750160" cy="15228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412920" y="1219320"/>
              <a:ext cx="8750160" cy="152280"/>
            </a:xfrm>
            <a:prstGeom prst="rect">
              <a:avLst/>
            </a:prstGeom>
            <a:gradFill rotWithShape="0">
              <a:gsLst>
                <a:gs pos="0">
                  <a:srgbClr val="563175"/>
                </a:gs>
                <a:gs pos="100000">
                  <a:srgbClr val="bc6cf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965160" y="6310440"/>
            <a:ext cx="1330200" cy="38088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563175"/>
              </a:gs>
              <a:gs pos="100000">
                <a:srgbClr val="bc6cfe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846000" y="6416640"/>
            <a:ext cx="603360" cy="34776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568520" y="6416640"/>
            <a:ext cx="603360" cy="34776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430200" y="549360"/>
            <a:ext cx="955800" cy="882720"/>
          </a:xfrm>
          <a:prstGeom prst="star5">
            <a:avLst/>
          </a:prstGeom>
          <a:gradFill rotWithShape="0">
            <a:gsLst>
              <a:gs pos="0">
                <a:srgbClr val="563175"/>
              </a:gs>
              <a:gs pos="100000">
                <a:srgbClr val="bc6cfe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980720" y="304920"/>
            <a:ext cx="495360" cy="457200"/>
          </a:xfrm>
          <a:prstGeom prst="star5">
            <a:avLst/>
          </a:prstGeom>
          <a:gradFill rotWithShape="0">
            <a:gsLst>
              <a:gs pos="0">
                <a:srgbClr val="563175"/>
              </a:gs>
              <a:gs pos="100000">
                <a:srgbClr val="bc6cfe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27440" y="171360"/>
            <a:ext cx="453960" cy="419040"/>
          </a:xfrm>
          <a:prstGeom prst="star5">
            <a:avLst/>
          </a:prstGeom>
          <a:gradFill rotWithShape="0">
            <a:gsLst>
              <a:gs pos="0">
                <a:srgbClr val="563175"/>
              </a:gs>
              <a:gs pos="100000">
                <a:srgbClr val="bc6cfe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898280" y="228600"/>
            <a:ext cx="495360" cy="45720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44640" y="19080"/>
            <a:ext cx="454320" cy="41904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7472880" y="5079960"/>
            <a:ext cx="2332440" cy="1364040"/>
            <a:chOff x="7472880" y="5079960"/>
            <a:chExt cx="2332440" cy="1364040"/>
          </a:xfrm>
        </p:grpSpPr>
        <p:sp>
          <p:nvSpPr>
            <p:cNvPr id="60" name=""/>
            <p:cNvSpPr/>
            <p:nvPr/>
          </p:nvSpPr>
          <p:spPr>
            <a:xfrm rot="20940000">
              <a:off x="7511760" y="5843520"/>
              <a:ext cx="495360" cy="457200"/>
            </a:xfrm>
            <a:prstGeom prst="star5">
              <a:avLst/>
            </a:prstGeom>
            <a:gradFill rotWithShape="0">
              <a:gsLst>
                <a:gs pos="0">
                  <a:srgbClr val="563175"/>
                </a:gs>
                <a:gs pos="100000">
                  <a:srgbClr val="bc6cf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332200" y="5276880"/>
              <a:ext cx="453960" cy="419040"/>
            </a:xfrm>
            <a:prstGeom prst="star5">
              <a:avLst/>
            </a:prstGeom>
            <a:gradFill rotWithShape="0">
              <a:gsLst>
                <a:gs pos="0">
                  <a:srgbClr val="563175"/>
                </a:gs>
                <a:gs pos="100000">
                  <a:srgbClr val="bc6cf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8971920" y="5181120"/>
              <a:ext cx="660240" cy="609840"/>
            </a:xfrm>
            <a:prstGeom prst="star5">
              <a:avLst/>
            </a:prstGeom>
            <a:gradFill rotWithShape="0">
              <a:gsLst>
                <a:gs pos="0">
                  <a:srgbClr val="563175"/>
                </a:gs>
                <a:gs pos="100000">
                  <a:srgbClr val="bc6cf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7650720" y="5943600"/>
              <a:ext cx="495360" cy="45720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415000" y="5353200"/>
              <a:ext cx="453960" cy="41904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9054720" y="5334120"/>
              <a:ext cx="66060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82520" y="244440"/>
            <a:ext cx="955800" cy="882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82080" y="632304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3384360" y="632448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7759800" y="632448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C5155-80D3-444B-A082-C7253FC2205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742680" y="914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495360" y="2057400"/>
            <a:ext cx="8997480" cy="380880"/>
            <a:chOff x="495360" y="2057400"/>
            <a:chExt cx="8997480" cy="380880"/>
          </a:xfrm>
        </p:grpSpPr>
        <p:sp>
          <p:nvSpPr>
            <p:cNvPr id="72" name=""/>
            <p:cNvSpPr/>
            <p:nvPr/>
          </p:nvSpPr>
          <p:spPr>
            <a:xfrm>
              <a:off x="742680" y="2286000"/>
              <a:ext cx="8750160" cy="15228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360" y="2057400"/>
              <a:ext cx="8750160" cy="152280"/>
            </a:xfrm>
            <a:prstGeom prst="rect">
              <a:avLst/>
            </a:prstGeom>
            <a:gradFill rotWithShape="0">
              <a:gsLst>
                <a:gs pos="0">
                  <a:srgbClr val="563175"/>
                </a:gs>
                <a:gs pos="100000">
                  <a:srgbClr val="bc6cf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pn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pn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04920" y="228600"/>
            <a:ext cx="9296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Times New Roman"/>
              </a:rPr>
              <a:t>Caracterização de Desempenho em Sistemas da Digital: </a:t>
            </a:r>
            <a:r>
              <a:rPr b="1" lang="en-US" sz="3200" spc="-1" strike="noStrike">
                <a:solidFill>
                  <a:srgbClr val="cc0066"/>
                </a:solidFill>
                <a:latin typeface="Times New Roman"/>
              </a:rPr>
              <a:t>Científicas vs /Comerciais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96360" y="4572000"/>
            <a:ext cx="6630120" cy="1191240"/>
          </a:xfrm>
          <a:prstGeom prst="rect">
            <a:avLst/>
          </a:prstGeom>
          <a:solidFill>
            <a:srgbClr val="f5fd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73737"/>
                </a:solidFill>
                <a:latin typeface="Times New Roman"/>
              </a:rPr>
              <a:t>Edward Moreno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Times New Roman"/>
              </a:rPr>
              <a:t>http://www.lsi.usp.br/~edmoreno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86280" y="2867040"/>
            <a:ext cx="923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333300"/>
                </a:solidFill>
                <a:latin typeface="Times New Roman"/>
              </a:rPr>
              <a:t>Lec-08 of Course PEE-5793 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333300"/>
                </a:solidFill>
                <a:latin typeface="Times New Roman"/>
              </a:rPr>
              <a:t>High Performance Computing on Commercial Applications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fig3" descr=""/>
          <p:cNvPicPr/>
          <p:nvPr/>
        </p:nvPicPr>
        <p:blipFill>
          <a:blip r:embed="rId1"/>
          <a:stretch/>
        </p:blipFill>
        <p:spPr>
          <a:xfrm>
            <a:off x="304920" y="1676520"/>
            <a:ext cx="4343400" cy="444960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233280" y="228600"/>
            <a:ext cx="7908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3399"/>
                </a:solidFill>
                <a:latin typeface="Times New Roman"/>
              </a:rPr>
              <a:t>Tempo em Funções Especiais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0066"/>
                </a:solidFill>
                <a:latin typeface="Times New Roman"/>
              </a:rPr>
              <a:t>(PAL: Privileged Architecture Library)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030560" y="1752480"/>
            <a:ext cx="5626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00"/>
                </a:solidFill>
                <a:latin typeface="Times New Roman"/>
              </a:rPr>
              <a:t>WCO fazem altas demandas ao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00"/>
                </a:solidFill>
                <a:latin typeface="Times New Roman"/>
              </a:rPr>
              <a:t>subsistema de I/O.   Portanto, mais tempo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00"/>
                </a:solidFill>
                <a:latin typeface="Times New Roman"/>
              </a:rPr>
              <a:t>de CPU é gasto gerenciando e manipulando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00"/>
                </a:solidFill>
                <a:latin typeface="Times New Roman"/>
              </a:rPr>
              <a:t>mais requisições de I/O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00"/>
                </a:solidFill>
                <a:latin typeface="Times New Roman"/>
              </a:rPr>
              <a:t>WCO gastam também muito mais tempo em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00"/>
                </a:solidFill>
                <a:latin typeface="Times New Roman"/>
              </a:rPr>
              <a:t>operações PAL.  Gerenciamento de misse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00"/>
                </a:solidFill>
                <a:latin typeface="Times New Roman"/>
              </a:rPr>
              <a:t>TB, operações de fila interlocked, mudança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00"/>
                </a:solidFill>
                <a:latin typeface="Times New Roman"/>
              </a:rPr>
              <a:t>de  modo, etc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571280" y="5334120"/>
            <a:ext cx="4900680" cy="11912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a73737"/>
                </a:solidFill>
                <a:latin typeface="Times New Roman"/>
              </a:rPr>
              <a:t>Aplicações Comerciais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a73737"/>
                </a:solidFill>
                <a:latin typeface="Times New Roman"/>
              </a:rPr>
              <a:t>Grande Componente I/O e PAL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a73737"/>
                </a:solidFill>
                <a:latin typeface="Times New Roman"/>
              </a:rPr>
              <a:t>afeta profundamente a performanc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fig4" descr=""/>
          <p:cNvPicPr/>
          <p:nvPr/>
        </p:nvPicPr>
        <p:blipFill>
          <a:blip r:embed="rId1"/>
          <a:stretch/>
        </p:blipFill>
        <p:spPr>
          <a:xfrm>
            <a:off x="304920" y="1752480"/>
            <a:ext cx="3809880" cy="449604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596880" y="349200"/>
            <a:ext cx="436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3399"/>
                </a:solidFill>
                <a:latin typeface="Times New Roman"/>
              </a:rPr>
              <a:t>Latência de Memória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321080" y="1717560"/>
            <a:ext cx="5312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00"/>
                </a:solidFill>
                <a:latin typeface="Times New Roman"/>
              </a:rPr>
              <a:t>WCO possui alta demanda no subsist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00"/>
                </a:solidFill>
                <a:latin typeface="Times New Roman"/>
              </a:rPr>
              <a:t>de memória e nos caches da arquitetura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00"/>
                </a:solidFill>
                <a:latin typeface="Times New Roman"/>
              </a:rPr>
              <a:t>Usualmente, têm uma pobre localidad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00"/>
                </a:solidFill>
                <a:latin typeface="Times New Roman"/>
              </a:rPr>
              <a:t>de código e dados, resultando num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00"/>
                </a:solidFill>
                <a:latin typeface="Times New Roman"/>
              </a:rPr>
              <a:t>maior número de cache misses, e portanto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00"/>
                </a:solidFill>
                <a:latin typeface="Times New Roman"/>
              </a:rPr>
              <a:t>uma maior latência de memória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341960" y="4267080"/>
            <a:ext cx="4874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00"/>
                </a:solidFill>
                <a:latin typeface="Times New Roman"/>
              </a:rPr>
              <a:t>WCO:  20% é gasto procurando dado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333300"/>
                </a:solidFill>
                <a:latin typeface="Times New Roman"/>
              </a:rPr>
              <a:t>na memória, 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00"/>
                </a:solidFill>
                <a:latin typeface="Times New Roman"/>
              </a:rPr>
              <a:t>WCI:  somente 2%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324320" y="5680080"/>
            <a:ext cx="4539240" cy="8254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a73737"/>
                </a:solidFill>
                <a:latin typeface="Times New Roman"/>
              </a:rPr>
              <a:t>Aplicações Comercia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a73737"/>
                </a:solidFill>
                <a:latin typeface="Times New Roman"/>
              </a:rPr>
              <a:t>Sistema de Memória mais Crítico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fig5" descr=""/>
          <p:cNvPicPr/>
          <p:nvPr/>
        </p:nvPicPr>
        <p:blipFill>
          <a:blip r:embed="rId1"/>
          <a:stretch/>
        </p:blipFill>
        <p:spPr>
          <a:xfrm>
            <a:off x="304920" y="1676520"/>
            <a:ext cx="4114800" cy="457200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518400" y="349200"/>
            <a:ext cx="547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3399"/>
                </a:solidFill>
                <a:latin typeface="Times New Roman"/>
              </a:rPr>
              <a:t>Efeito de Instruções DUAL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263480" y="1752480"/>
            <a:ext cx="5394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00"/>
                </a:solidFill>
                <a:latin typeface="Times New Roman"/>
              </a:rPr>
              <a:t>(1) uma load/store e operação (INT ou PF)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00"/>
                </a:solidFill>
                <a:latin typeface="Times New Roman"/>
              </a:rPr>
              <a:t>(2) um inteiro e um Ponto Flutuant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00"/>
                </a:solidFill>
                <a:latin typeface="Times New Roman"/>
              </a:rPr>
              <a:t>(3) um branch com load/store/operação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704120" y="3241800"/>
            <a:ext cx="4658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00"/>
                </a:solidFill>
                <a:latin typeface="Times New Roman"/>
              </a:rPr>
              <a:t>58% Linpack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00"/>
                </a:solidFill>
                <a:latin typeface="Times New Roman"/>
              </a:rPr>
              <a:t>43% Sort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00"/>
                </a:solidFill>
                <a:latin typeface="Times New Roman"/>
              </a:rPr>
              <a:t>50% maioria do SPEC CFPF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00"/>
                </a:solidFill>
                <a:latin typeface="Times New Roman"/>
              </a:rPr>
              <a:t>O número de dual-issues é maior em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00"/>
                </a:solidFill>
                <a:latin typeface="Times New Roman"/>
              </a:rPr>
              <a:t>workloads de PF do que em inteiros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419000" y="5638680"/>
            <a:ext cx="5370120" cy="8254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a73737"/>
                </a:solidFill>
                <a:latin typeface="Times New Roman"/>
              </a:rPr>
              <a:t>WCO &gt; 20%, mas pouco representativo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a73737"/>
                </a:solidFill>
                <a:latin typeface="Times New Roman"/>
              </a:rPr>
              <a:t>no tempo total de execução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fig6" descr=""/>
          <p:cNvPicPr/>
          <p:nvPr/>
        </p:nvPicPr>
        <p:blipFill>
          <a:blip r:embed="rId1"/>
          <a:stretch/>
        </p:blipFill>
        <p:spPr>
          <a:xfrm>
            <a:off x="228600" y="1752480"/>
            <a:ext cx="4114800" cy="427356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520200" y="272880"/>
            <a:ext cx="4420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3399"/>
                </a:solidFill>
                <a:latin typeface="Times New Roman"/>
              </a:rPr>
              <a:t>Predição de Branches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493520" y="2209680"/>
            <a:ext cx="5171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00"/>
                </a:solidFill>
                <a:latin typeface="Times New Roman"/>
              </a:rPr>
              <a:t>Os dados indicam que apesar d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00"/>
                </a:solidFill>
                <a:latin typeface="Times New Roman"/>
              </a:rPr>
              <a:t>porcentagem de branch seja alta, o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00"/>
                </a:solidFill>
                <a:latin typeface="Times New Roman"/>
              </a:rPr>
              <a:t>efeitos na performance total não são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00"/>
                </a:solidFill>
                <a:latin typeface="Times New Roman"/>
              </a:rPr>
              <a:t>muito significativos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333300"/>
                </a:solidFill>
                <a:latin typeface="Times New Roman"/>
              </a:rPr>
              <a:t>Particularmente, em WORK PFs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429800" y="4572000"/>
            <a:ext cx="5045400" cy="1557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a73737"/>
                </a:solidFill>
                <a:latin typeface="Times New Roman"/>
              </a:rPr>
              <a:t>WCO: Boa predição de branchs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a73737"/>
                </a:solidFill>
                <a:latin typeface="Times New Roman"/>
              </a:rPr>
              <a:t>(em %), mas pouco representativo n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a73737"/>
                </a:solidFill>
                <a:latin typeface="Times New Roman"/>
              </a:rPr>
              <a:t>performance total.  Similar às Apps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a73737"/>
                </a:solidFill>
                <a:latin typeface="Times New Roman"/>
              </a:rPr>
              <a:t>científicas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fig7" descr=""/>
          <p:cNvPicPr/>
          <p:nvPr/>
        </p:nvPicPr>
        <p:blipFill>
          <a:blip r:embed="rId1"/>
          <a:stretch/>
        </p:blipFill>
        <p:spPr>
          <a:xfrm>
            <a:off x="304920" y="1600200"/>
            <a:ext cx="4114800" cy="4459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443160" y="272880"/>
            <a:ext cx="517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3399"/>
                </a:solidFill>
                <a:latin typeface="Times New Roman"/>
              </a:rPr>
              <a:t>Análise Tempo de Espera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415040" y="1600200"/>
            <a:ext cx="5097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00"/>
                </a:solidFill>
                <a:latin typeface="Times New Roman"/>
              </a:rPr>
              <a:t>Stall: porcentagem do tempo que a CPU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00"/>
                </a:solidFill>
                <a:latin typeface="Times New Roman"/>
              </a:rPr>
              <a:t>não está emitindo instruções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245480" y="2514600"/>
            <a:ext cx="5668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00"/>
                </a:solidFill>
                <a:latin typeface="Times New Roman"/>
              </a:rPr>
              <a:t>Dry Stall, causadas por misses no Icac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333300"/>
                </a:solidFill>
                <a:latin typeface="Times New Roman"/>
              </a:rPr>
              <a:t>e no Bcache, e exceções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00"/>
                </a:solidFill>
                <a:latin typeface="Times New Roman"/>
              </a:rPr>
              <a:t>Frozen, misses Dcache/Bcache, conflito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00"/>
                </a:solidFill>
                <a:latin typeface="Times New Roman"/>
              </a:rPr>
              <a:t>nos registradores e unidades ocupadas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00"/>
                </a:solidFill>
                <a:latin typeface="Times New Roman"/>
              </a:rPr>
              <a:t>Mispredicted: produto do número de branch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00"/>
                </a:solidFill>
                <a:latin typeface="Times New Roman"/>
              </a:rPr>
              <a:t>mispredictions e o tempo médio de predição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493160" y="5029200"/>
            <a:ext cx="5115600" cy="1557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a73737"/>
                </a:solidFill>
                <a:latin typeface="Times New Roman"/>
              </a:rPr>
              <a:t>WCO: Frequente chaveamento de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a73737"/>
                </a:solidFill>
                <a:latin typeface="Times New Roman"/>
              </a:rPr>
              <a:t>contextos entre múltiples processos, e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a73737"/>
                </a:solidFill>
                <a:latin typeface="Times New Roman"/>
              </a:rPr>
              <a:t>alta atividade de I/O, sistema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a73737"/>
                </a:solidFill>
                <a:latin typeface="Times New Roman"/>
              </a:rPr>
              <a:t>operacional e PAL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6880" y="6035760"/>
            <a:ext cx="3314160" cy="8254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99"/>
                </a:solidFill>
                <a:latin typeface="Times New Roman"/>
              </a:rPr>
              <a:t>Técnicas para misse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99"/>
                </a:solidFill>
                <a:latin typeface="Times New Roman"/>
              </a:rPr>
              <a:t>de cache e não branche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fig8" descr=""/>
          <p:cNvPicPr/>
          <p:nvPr/>
        </p:nvPicPr>
        <p:blipFill>
          <a:blip r:embed="rId1"/>
          <a:stretch/>
        </p:blipFill>
        <p:spPr>
          <a:xfrm>
            <a:off x="380880" y="1600200"/>
            <a:ext cx="4191120" cy="453564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382320" y="304920"/>
            <a:ext cx="481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3399"/>
                </a:solidFill>
                <a:latin typeface="Times New Roman"/>
              </a:rPr>
              <a:t>Instruções Load e Store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630680" y="1717560"/>
            <a:ext cx="370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00"/>
                </a:solidFill>
                <a:latin typeface="Times New Roman"/>
              </a:rPr>
              <a:t>Instruções Load: 15% e 40%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00"/>
                </a:solidFill>
                <a:latin typeface="Times New Roman"/>
              </a:rPr>
              <a:t>Instruções Store:  2% e 18%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491000" y="5257800"/>
            <a:ext cx="4748040" cy="11912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8000"/>
                </a:solidFill>
                <a:latin typeface="Times New Roman"/>
              </a:rPr>
              <a:t>WCO: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8000"/>
                </a:solidFill>
                <a:latin typeface="Times New Roman"/>
              </a:rPr>
              <a:t>Loads (15-20%) e Stores (10-12%)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8000"/>
                </a:solidFill>
                <a:latin typeface="Times New Roman"/>
              </a:rPr>
              <a:t>Relação L/S: 1.3 a 1.8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645800" y="2971800"/>
            <a:ext cx="4582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00"/>
                </a:solidFill>
                <a:latin typeface="Times New Roman"/>
              </a:rPr>
              <a:t>WCI: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00"/>
                </a:solidFill>
                <a:latin typeface="Times New Roman"/>
              </a:rPr>
              <a:t>Int: Load (20-30%) e Store (2-18%)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pt-BR" sz="24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333300"/>
                </a:solidFill>
                <a:latin typeface="Times New Roman"/>
              </a:rPr>
              <a:t>relação l/s: 1.6 a mais de 10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00"/>
                </a:solidFill>
                <a:latin typeface="Times New Roman"/>
              </a:rPr>
              <a:t>PF: Load (15-40%) e Store (3-17%)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333300"/>
                </a:solidFill>
                <a:latin typeface="Times New Roman"/>
              </a:rPr>
              <a:t>relação l/s: 1.3 e 8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fig9" descr=""/>
          <p:cNvPicPr/>
          <p:nvPr/>
        </p:nvPicPr>
        <p:blipFill>
          <a:blip r:embed="rId1"/>
          <a:stretch/>
        </p:blipFill>
        <p:spPr>
          <a:xfrm>
            <a:off x="380880" y="1676520"/>
            <a:ext cx="4419720" cy="449568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671040" y="272880"/>
            <a:ext cx="446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3399"/>
                </a:solidFill>
                <a:latin typeface="Times New Roman"/>
              </a:rPr>
              <a:t>Caches: Misses de I/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948560" y="1905120"/>
            <a:ext cx="4615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00"/>
                </a:solidFill>
                <a:latin typeface="Times New Roman"/>
              </a:rPr>
              <a:t>Maior Misses de instruções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00"/>
                </a:solidFill>
                <a:latin typeface="Times New Roman"/>
              </a:rPr>
              <a:t>pois ha um maior chaveamento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00"/>
                </a:solidFill>
                <a:latin typeface="Times New Roman"/>
              </a:rPr>
              <a:t>de contextos e processos, branche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00"/>
                </a:solidFill>
                <a:latin typeface="Times New Roman"/>
              </a:rPr>
              <a:t>frequentes, PAL Traps, chamada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00"/>
                </a:solidFill>
                <a:latin typeface="Times New Roman"/>
              </a:rPr>
              <a:t>de sistema, subroutinas, e Run Tim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00"/>
                </a:solidFill>
                <a:latin typeface="Times New Roman"/>
              </a:rPr>
              <a:t>Libraries.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10840" y="4460760"/>
            <a:ext cx="455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00"/>
                </a:solidFill>
                <a:latin typeface="Times New Roman"/>
              </a:rPr>
              <a:t>Grande misses de dados, pela pobr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00"/>
                </a:solidFill>
                <a:latin typeface="Times New Roman"/>
              </a:rPr>
              <a:t>localidade de referência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011920" y="5527800"/>
            <a:ext cx="4562280" cy="8254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8000"/>
                </a:solidFill>
                <a:latin typeface="Times New Roman"/>
              </a:rPr>
              <a:t>WCO: Precisa melhoramentos no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8000"/>
                </a:solidFill>
                <a:latin typeface="Times New Roman"/>
              </a:rPr>
              <a:t>COMPILADOR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fig10" descr=""/>
          <p:cNvPicPr/>
          <p:nvPr/>
        </p:nvPicPr>
        <p:blipFill>
          <a:blip r:embed="rId1"/>
          <a:stretch/>
        </p:blipFill>
        <p:spPr>
          <a:xfrm>
            <a:off x="228600" y="1676520"/>
            <a:ext cx="4495680" cy="442908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518760" y="272880"/>
            <a:ext cx="465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3399"/>
                </a:solidFill>
                <a:latin typeface="Times New Roman"/>
              </a:rPr>
              <a:t>Desempenho Cache L2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39440" y="1905120"/>
            <a:ext cx="4749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00"/>
                </a:solidFill>
                <a:latin typeface="Times New Roman"/>
              </a:rPr>
              <a:t>Notar um alto número de misses na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00"/>
                </a:solidFill>
                <a:latin typeface="Times New Roman"/>
              </a:rPr>
              <a:t>aplicações comerciais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00"/>
                </a:solidFill>
                <a:latin typeface="Times New Roman"/>
              </a:rPr>
              <a:t>Perceber efeito desprezível no SPEC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72640" y="3851280"/>
            <a:ext cx="5270760" cy="1922760"/>
          </a:xfrm>
          <a:prstGeom prst="rect">
            <a:avLst/>
          </a:prstGeom>
          <a:solidFill>
            <a:srgbClr val="f7fc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Em WCO, misses de leitura são ma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críticos do que misses de escrita, e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misses vítima (blocos de cache em estado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dirty, restauração a memória) são 30%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dos misses totais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fig11" descr=""/>
          <p:cNvPicPr/>
          <p:nvPr/>
        </p:nvPicPr>
        <p:blipFill>
          <a:blip r:embed="rId1"/>
          <a:stretch/>
        </p:blipFill>
        <p:spPr>
          <a:xfrm>
            <a:off x="228600" y="1676520"/>
            <a:ext cx="4191120" cy="45450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519120" y="272880"/>
            <a:ext cx="839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3399"/>
                </a:solidFill>
                <a:latin typeface="Times New Roman"/>
              </a:rPr>
              <a:t>Desempenho Cache: Comparação L1 e L2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03400" y="1946160"/>
            <a:ext cx="4318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00"/>
                </a:solidFill>
                <a:latin typeface="Times New Roman"/>
              </a:rPr>
              <a:t>Bcache read: Bcache read misses/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00"/>
                </a:solidFill>
                <a:latin typeface="Times New Roman"/>
              </a:rPr>
              <a:t>(Icache misses + Dcache misses)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779360" y="3317760"/>
            <a:ext cx="4522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00"/>
                </a:solidFill>
                <a:latin typeface="Times New Roman"/>
              </a:rPr>
              <a:t>Bcache write: Bcache write misses/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00"/>
                </a:solidFill>
                <a:latin typeface="Times New Roman"/>
              </a:rPr>
              <a:t>Store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782240" y="4460760"/>
            <a:ext cx="389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00"/>
                </a:solidFill>
                <a:latin typeface="Times New Roman"/>
              </a:rPr>
              <a:t>Dcache: Dcache misses/Load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265640" y="5334120"/>
            <a:ext cx="5426280" cy="1191240"/>
          </a:xfrm>
          <a:prstGeom prst="rect">
            <a:avLst/>
          </a:prstGeom>
          <a:solidFill>
            <a:srgbClr val="f7fc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8000"/>
                </a:solidFill>
                <a:latin typeface="Times New Roman"/>
              </a:rPr>
              <a:t>WCO: Grande necessidade de memória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8000"/>
                </a:solidFill>
                <a:latin typeface="Times New Roman"/>
              </a:rPr>
              <a:t>grandes caches de dados e melhore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8000"/>
                </a:solidFill>
                <a:latin typeface="Times New Roman"/>
              </a:rPr>
              <a:t>técnicas de otimização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fig12" descr=""/>
          <p:cNvPicPr/>
          <p:nvPr/>
        </p:nvPicPr>
        <p:blipFill>
          <a:blip r:embed="rId1"/>
          <a:stretch/>
        </p:blipFill>
        <p:spPr>
          <a:xfrm>
            <a:off x="228600" y="1752480"/>
            <a:ext cx="3962520" cy="428652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518760" y="272880"/>
            <a:ext cx="6874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3399"/>
                </a:solidFill>
                <a:latin typeface="Times New Roman"/>
              </a:rPr>
              <a:t>Componentes Tempo de Execução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4648320" y="1828800"/>
            <a:ext cx="3809880" cy="380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?</a:t>
            </a:r>
            <a:endParaRPr b="0" lang="en-US" sz="2400" spc="1" strike="noStrike">
              <a:ln cap="sq"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04920" y="1600200"/>
            <a:ext cx="929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Times New Roman"/>
              </a:rPr>
              <a:t>Alphaserver 4100 Performance Characterization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828800" y="2286000"/>
            <a:ext cx="739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00"/>
                </a:solidFill>
                <a:latin typeface="Times New Roman"/>
              </a:rPr>
              <a:t>Zarka Cvetanovic and Darrel Donalds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00"/>
                </a:solidFill>
                <a:latin typeface="Times New Roman"/>
              </a:rPr>
              <a:t>Digital Technical Journa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3760" y="304920"/>
            <a:ext cx="2820240" cy="642600"/>
          </a:xfrm>
          <a:prstGeom prst="rect">
            <a:avLst/>
          </a:prstGeom>
          <a:solidFill>
            <a:srgbClr val="f5fd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0066"/>
                </a:solidFill>
                <a:latin typeface="Times New Roman"/>
              </a:rPr>
              <a:t>Three Papers: 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04920" y="3200400"/>
            <a:ext cx="9601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Times New Roman"/>
              </a:rPr>
              <a:t>Performance Characterization of the Alpha 21164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Times New Roman"/>
              </a:rPr>
              <a:t>Microprocessor using  TP and SPEC Workloads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219320" y="43434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00"/>
                </a:solidFill>
                <a:latin typeface="Times New Roman"/>
              </a:rPr>
              <a:t>Zarka Cvetanovic and Dileep Bhandarkar, HPCA Proceeding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4920" y="4952880"/>
            <a:ext cx="9601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Times New Roman"/>
              </a:rPr>
              <a:t>Characterization of Alpha AXP Performance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Times New Roman"/>
              </a:rPr>
              <a:t>using  TP and SPEC Workloads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819520" y="601992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00"/>
                </a:solidFill>
                <a:latin typeface="Times New Roman"/>
              </a:rPr>
              <a:t>Zarka Cvetanovic and Dileep Bhandarkar, ASPLO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fig13" descr=""/>
          <p:cNvPicPr/>
          <p:nvPr/>
        </p:nvPicPr>
        <p:blipFill>
          <a:blip r:embed="rId1"/>
          <a:stretch/>
        </p:blipFill>
        <p:spPr>
          <a:xfrm>
            <a:off x="228600" y="1676520"/>
            <a:ext cx="4724280" cy="45385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593280" y="196920"/>
            <a:ext cx="6204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3399"/>
                </a:solidFill>
                <a:latin typeface="Times New Roman"/>
              </a:rPr>
              <a:t>Uso do Conjunto de Instruções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797000" y="1828800"/>
            <a:ext cx="4877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00"/>
                </a:solidFill>
                <a:latin typeface="Times New Roman"/>
              </a:rPr>
              <a:t>WCI e WCO fazem uso pesado de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00"/>
                </a:solidFill>
                <a:latin typeface="Times New Roman"/>
              </a:rPr>
              <a:t>operações de memória (20-50%)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00"/>
                </a:solidFill>
                <a:latin typeface="Times New Roman"/>
              </a:rPr>
              <a:t>WCO têm mais branches do que WCI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00"/>
                </a:solidFill>
                <a:latin typeface="Times New Roman"/>
              </a:rPr>
              <a:t>(muito mais do que PF) e o número d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00"/>
                </a:solidFill>
                <a:latin typeface="Times New Roman"/>
              </a:rPr>
              <a:t>mispredictions são mais críticos em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00"/>
                </a:solidFill>
                <a:latin typeface="Times New Roman"/>
              </a:rPr>
              <a:t>WCO do que WCI PF.  Ainda assim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00"/>
                </a:solidFill>
                <a:latin typeface="Times New Roman"/>
              </a:rPr>
              <a:t>o efeito na performance total não é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00"/>
                </a:solidFill>
                <a:latin typeface="Times New Roman"/>
              </a:rPr>
              <a:t>tão significativa quanto esperado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782240" y="5451480"/>
            <a:ext cx="4809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00"/>
                </a:solidFill>
                <a:latin typeface="Times New Roman"/>
              </a:rPr>
              <a:t>Desprezível número de PFs.  Portanto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00"/>
                </a:solidFill>
                <a:latin typeface="Times New Roman"/>
              </a:rPr>
              <a:t>precisa-se menos esforços aqui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fig14" descr=""/>
          <p:cNvPicPr/>
          <p:nvPr/>
        </p:nvPicPr>
        <p:blipFill>
          <a:blip r:embed="rId1"/>
          <a:stretch/>
        </p:blipFill>
        <p:spPr>
          <a:xfrm>
            <a:off x="228600" y="1676520"/>
            <a:ext cx="4419720" cy="472428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595080" y="349200"/>
            <a:ext cx="607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3399"/>
                </a:solidFill>
                <a:latin typeface="Times New Roman"/>
              </a:rPr>
              <a:t>Relações VAX e ALPHA AXP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935240" y="1793880"/>
            <a:ext cx="465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00"/>
                </a:solidFill>
                <a:latin typeface="Times New Roman"/>
              </a:rPr>
              <a:t>Tempos de ciclo entre VAX e Alph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00"/>
                </a:solidFill>
                <a:latin typeface="Times New Roman"/>
              </a:rPr>
              <a:t>AXP é 2.2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53640" y="2936880"/>
            <a:ext cx="4629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00"/>
                </a:solidFill>
                <a:latin typeface="Times New Roman"/>
              </a:rPr>
              <a:t>WCO:  Alpha executa 3.3 - 4.1 ma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00"/>
                </a:solidFill>
                <a:latin typeface="Times New Roman"/>
              </a:rPr>
              <a:t>instruções do que VAX.   Enquanto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00"/>
                </a:solidFill>
                <a:latin typeface="Times New Roman"/>
              </a:rPr>
              <a:t>melhora o CPI entre 2.7 a 3 vezes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383760" y="304920"/>
            <a:ext cx="549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3399"/>
                </a:solidFill>
                <a:latin typeface="Times New Roman"/>
              </a:rPr>
              <a:t>Conclusão:  Primeira parte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80880" y="20574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00"/>
                </a:solidFill>
                <a:latin typeface="Times New Roman"/>
              </a:rPr>
              <a:t>Todas as diferenças anotadas e discutidas anteriormente precisam ser ainda mais estudadas, analisadas e caracterizada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00"/>
                </a:solidFill>
                <a:latin typeface="Times New Roman"/>
              </a:rPr>
              <a:t>SO ASSIM conseguiremos melhores avaliações e estratégias para WCO.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28040" y="3622680"/>
            <a:ext cx="947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00"/>
                </a:solidFill>
                <a:latin typeface="Times New Roman"/>
              </a:rPr>
              <a:t>Aplicações Científicas e Comerciais, exibem comportamento diferente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00"/>
                </a:solidFill>
                <a:latin typeface="Times New Roman"/>
              </a:rPr>
              <a:t>e colocam diferentes níveis de stress nos diferentes componentes do sist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14080" y="4842000"/>
            <a:ext cx="9038160" cy="8254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99"/>
                </a:solidFill>
                <a:latin typeface="Times New Roman"/>
              </a:rPr>
              <a:t>Aplicações comerciais são um DESAFIO aos projetistas de sistemas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99"/>
                </a:solidFill>
                <a:latin typeface="Times New Roman"/>
              </a:rPr>
              <a:t>usuários, avaliadores e criadores de aplicações mais otimizadas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304920" y="3886200"/>
            <a:ext cx="9219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Times New Roman"/>
              </a:rPr>
              <a:t>Performance Characterization of the Alpha 21164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Times New Roman"/>
              </a:rPr>
              <a:t>Microprocessor using  TP and SPEC Workloads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80880" y="51055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00"/>
                </a:solidFill>
                <a:latin typeface="Times New Roman"/>
              </a:rPr>
              <a:t>Zarka Cvetanovic and Dileep Bhandarkar, HPCA Proceeding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1219320" y="1828800"/>
            <a:ext cx="792468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Parte II</a:t>
            </a:r>
            <a:endParaRPr b="0" lang="en-US" sz="2400" spc="1" strike="noStrike">
              <a:ln cap="sq"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table1" descr=""/>
          <p:cNvPicPr/>
          <p:nvPr/>
        </p:nvPicPr>
        <p:blipFill>
          <a:blip r:embed="rId1"/>
          <a:stretch/>
        </p:blipFill>
        <p:spPr>
          <a:xfrm>
            <a:off x="380880" y="1828800"/>
            <a:ext cx="3733920" cy="4170240"/>
          </a:xfrm>
          <a:prstGeom prst="rect">
            <a:avLst/>
          </a:prstGeom>
          <a:ln w="0">
            <a:noFill/>
          </a:ln>
        </p:spPr>
      </p:pic>
      <p:pic>
        <p:nvPicPr>
          <p:cNvPr id="212" name="table2" descr=""/>
          <p:cNvPicPr/>
          <p:nvPr/>
        </p:nvPicPr>
        <p:blipFill>
          <a:blip r:embed="rId2"/>
          <a:stretch/>
        </p:blipFill>
        <p:spPr>
          <a:xfrm>
            <a:off x="5334120" y="2819520"/>
            <a:ext cx="3510000" cy="252720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519840" y="349200"/>
            <a:ext cx="470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3399"/>
                </a:solidFill>
                <a:latin typeface="Times New Roman"/>
              </a:rPr>
              <a:t>Ambiente de Avaliação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fig1" descr=""/>
          <p:cNvPicPr/>
          <p:nvPr/>
        </p:nvPicPr>
        <p:blipFill>
          <a:blip r:embed="rId1"/>
          <a:stretch/>
        </p:blipFill>
        <p:spPr>
          <a:xfrm>
            <a:off x="304920" y="1828800"/>
            <a:ext cx="4572000" cy="436896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306000" y="304920"/>
            <a:ext cx="419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3399"/>
                </a:solidFill>
                <a:latin typeface="Times New Roman"/>
              </a:rPr>
              <a:t>Comparação do CPI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023440" y="1752480"/>
            <a:ext cx="4694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00"/>
                </a:solidFill>
                <a:latin typeface="Times New Roman"/>
              </a:rPr>
              <a:t>AIM-III é representativo d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00"/>
                </a:solidFill>
                <a:latin typeface="Times New Roman"/>
              </a:rPr>
              <a:t>workloads comerciais multi-usuário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00"/>
                </a:solidFill>
                <a:latin typeface="Times New Roman"/>
              </a:rPr>
              <a:t>de tempo-compartilhado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fig2" descr=""/>
          <p:cNvPicPr/>
          <p:nvPr/>
        </p:nvPicPr>
        <p:blipFill>
          <a:blip r:embed="rId1"/>
          <a:stretch/>
        </p:blipFill>
        <p:spPr>
          <a:xfrm>
            <a:off x="228600" y="1600200"/>
            <a:ext cx="4191120" cy="484668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519120" y="349200"/>
            <a:ext cx="698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3399"/>
                </a:solidFill>
                <a:latin typeface="Times New Roman"/>
              </a:rPr>
              <a:t>Comparação HW &amp; SW (SPEC92)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412520" y="1752480"/>
            <a:ext cx="51948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00"/>
                </a:solidFill>
                <a:latin typeface="Times New Roman"/>
              </a:rPr>
              <a:t>Principal fator deve-se às otimizações do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00"/>
                </a:solidFill>
                <a:latin typeface="Times New Roman"/>
              </a:rPr>
              <a:t>COMPILADOR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00"/>
                </a:solidFill>
                <a:latin typeface="Times New Roman"/>
              </a:rPr>
              <a:t>CODE SCHEDULING: 2% - 10%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00"/>
                </a:solidFill>
                <a:latin typeface="Times New Roman"/>
              </a:rPr>
              <a:t>SOFTWARE PIPELINING: 6%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00"/>
                </a:solidFill>
                <a:latin typeface="Times New Roman"/>
              </a:rPr>
              <a:t>SPECULATIVE EXECUTION: 36-23-6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00"/>
                </a:solidFill>
                <a:latin typeface="Times New Roman"/>
              </a:rPr>
              <a:t>PROFILE-based OPT:  3%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00"/>
                </a:solidFill>
                <a:latin typeface="Times New Roman"/>
              </a:rPr>
              <a:t>LINK-time OPT: 4-14%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fig3" descr=""/>
          <p:cNvPicPr/>
          <p:nvPr/>
        </p:nvPicPr>
        <p:blipFill>
          <a:blip r:embed="rId1"/>
          <a:stretch/>
        </p:blipFill>
        <p:spPr>
          <a:xfrm>
            <a:off x="457200" y="1752480"/>
            <a:ext cx="4343400" cy="445320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229680" y="304920"/>
            <a:ext cx="914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3399"/>
                </a:solidFill>
                <a:latin typeface="Times New Roman"/>
              </a:rPr>
              <a:t>Distribuição dos Ciclos: Alpha 21164 &amp; 21064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2" name="fig4" descr=""/>
          <p:cNvPicPr/>
          <p:nvPr/>
        </p:nvPicPr>
        <p:blipFill>
          <a:blip r:embed="rId2"/>
          <a:stretch/>
        </p:blipFill>
        <p:spPr>
          <a:xfrm>
            <a:off x="5181480" y="1981080"/>
            <a:ext cx="4419720" cy="426240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2362680" y="6172200"/>
            <a:ext cx="6211080" cy="4597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99"/>
                </a:solidFill>
                <a:latin typeface="Times New Roman"/>
              </a:rPr>
              <a:t>WCO: Número 26% - 53%e Tempo: 4% - 8%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fig5" descr=""/>
          <p:cNvPicPr/>
          <p:nvPr/>
        </p:nvPicPr>
        <p:blipFill>
          <a:blip r:embed="rId1"/>
          <a:stretch/>
        </p:blipFill>
        <p:spPr>
          <a:xfrm>
            <a:off x="228600" y="1676520"/>
            <a:ext cx="4114800" cy="464328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595440" y="272880"/>
            <a:ext cx="7546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3399"/>
                </a:solidFill>
                <a:latin typeface="Times New Roman"/>
              </a:rPr>
              <a:t>Ciclos Emitidos (% de todos os ciclos)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fig6" descr=""/>
          <p:cNvPicPr/>
          <p:nvPr/>
        </p:nvPicPr>
        <p:blipFill>
          <a:blip r:embed="rId1"/>
          <a:stretch/>
        </p:blipFill>
        <p:spPr>
          <a:xfrm>
            <a:off x="304920" y="1752480"/>
            <a:ext cx="4572000" cy="4419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596520" y="272880"/>
            <a:ext cx="758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3399"/>
                </a:solidFill>
                <a:latin typeface="Times New Roman"/>
              </a:rPr>
              <a:t>Predição de Branches: 21064 &amp; 21164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8" name="fig7" descr=""/>
          <p:cNvPicPr/>
          <p:nvPr/>
        </p:nvPicPr>
        <p:blipFill>
          <a:blip r:embed="rId2"/>
          <a:stretch/>
        </p:blipFill>
        <p:spPr>
          <a:xfrm>
            <a:off x="5181480" y="1676520"/>
            <a:ext cx="43992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304920" y="4419720"/>
            <a:ext cx="8762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Times New Roman"/>
              </a:rPr>
              <a:t>Characterization of Alpha AXP Performance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Times New Roman"/>
              </a:rPr>
              <a:t>using  TP and SPEC Workloads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57200" y="5562720"/>
            <a:ext cx="681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00"/>
                </a:solidFill>
                <a:latin typeface="Times New Roman"/>
              </a:rPr>
              <a:t>Zarka Cvetanovic and Dileep Bhandarkar, ASPLO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295280" y="1981080"/>
            <a:ext cx="777240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Parte I</a:t>
            </a:r>
            <a:endParaRPr b="0" lang="en-US" sz="2400" spc="1" strike="noStrike">
              <a:ln cap="sq"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fig8" descr=""/>
          <p:cNvPicPr/>
          <p:nvPr/>
        </p:nvPicPr>
        <p:blipFill>
          <a:blip r:embed="rId1"/>
          <a:stretch/>
        </p:blipFill>
        <p:spPr>
          <a:xfrm>
            <a:off x="380880" y="1523880"/>
            <a:ext cx="4648320" cy="476424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518760" y="272880"/>
            <a:ext cx="73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3399"/>
                </a:solidFill>
                <a:latin typeface="Times New Roman"/>
              </a:rPr>
              <a:t>Tempos de Espera no 21164 &amp; 21064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1" name="fig9" descr=""/>
          <p:cNvPicPr/>
          <p:nvPr/>
        </p:nvPicPr>
        <p:blipFill>
          <a:blip r:embed="rId2"/>
          <a:stretch/>
        </p:blipFill>
        <p:spPr>
          <a:xfrm>
            <a:off x="5334120" y="1523880"/>
            <a:ext cx="4254480" cy="502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fig10" descr=""/>
          <p:cNvPicPr/>
          <p:nvPr/>
        </p:nvPicPr>
        <p:blipFill>
          <a:blip r:embed="rId1"/>
          <a:stretch/>
        </p:blipFill>
        <p:spPr>
          <a:xfrm>
            <a:off x="228600" y="1676520"/>
            <a:ext cx="4495680" cy="441468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595080" y="425520"/>
            <a:ext cx="470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3399"/>
                </a:solidFill>
                <a:latin typeface="Times New Roman"/>
              </a:rPr>
              <a:t>Cache Misses Off-Chip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4" name="fig11" descr=""/>
          <p:cNvPicPr/>
          <p:nvPr/>
        </p:nvPicPr>
        <p:blipFill>
          <a:blip r:embed="rId2"/>
          <a:stretch/>
        </p:blipFill>
        <p:spPr>
          <a:xfrm>
            <a:off x="4648320" y="1676520"/>
            <a:ext cx="4819680" cy="480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fig12" descr=""/>
          <p:cNvPicPr/>
          <p:nvPr/>
        </p:nvPicPr>
        <p:blipFill>
          <a:blip r:embed="rId1"/>
          <a:stretch/>
        </p:blipFill>
        <p:spPr>
          <a:xfrm>
            <a:off x="304920" y="1676520"/>
            <a:ext cx="4267080" cy="478620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365760" y="272880"/>
            <a:ext cx="649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3399"/>
                </a:solidFill>
                <a:latin typeface="Times New Roman"/>
              </a:rPr>
              <a:t>Componentes do Tempo (21164)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7" name="fig13" descr=""/>
          <p:cNvPicPr/>
          <p:nvPr/>
        </p:nvPicPr>
        <p:blipFill>
          <a:blip r:embed="rId2"/>
          <a:stretch/>
        </p:blipFill>
        <p:spPr>
          <a:xfrm>
            <a:off x="4876920" y="1752480"/>
            <a:ext cx="4343400" cy="467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fig14" descr=""/>
          <p:cNvPicPr/>
          <p:nvPr/>
        </p:nvPicPr>
        <p:blipFill>
          <a:blip r:embed="rId1"/>
          <a:stretch/>
        </p:blipFill>
        <p:spPr>
          <a:xfrm>
            <a:off x="304920" y="1752480"/>
            <a:ext cx="4572000" cy="429912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/>
          <p:nvPr/>
        </p:nvSpPr>
        <p:spPr>
          <a:xfrm>
            <a:off x="288720" y="349200"/>
            <a:ext cx="6204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3399"/>
                </a:solidFill>
                <a:latin typeface="Times New Roman"/>
              </a:rPr>
              <a:t>Uso do Conjunto de Instruções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 txBox="1"/>
          <p:nvPr/>
        </p:nvSpPr>
        <p:spPr>
          <a:xfrm>
            <a:off x="762120" y="1981080"/>
            <a:ext cx="7848360" cy="1778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Parte III</a:t>
            </a:r>
            <a:endParaRPr b="0" lang="en-US" sz="2400" spc="1" strike="noStrike">
              <a:ln cap="sq"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41" name=""/>
          <p:cNvSpPr/>
          <p:nvPr/>
        </p:nvSpPr>
        <p:spPr>
          <a:xfrm>
            <a:off x="609480" y="4572000"/>
            <a:ext cx="8915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99"/>
                </a:solidFill>
                <a:latin typeface="Times New Roman"/>
              </a:rPr>
              <a:t>Alpha Server 4100 Performance Characterization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00"/>
                </a:solidFill>
                <a:latin typeface="Times New Roman"/>
              </a:rPr>
              <a:t>Zarka Cvetanovic, Darrel Donalds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671040" y="272880"/>
            <a:ext cx="556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3399"/>
                </a:solidFill>
                <a:latin typeface="Times New Roman"/>
              </a:rPr>
              <a:t>Introdução do AlphaServer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53880" y="1793880"/>
            <a:ext cx="9087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00"/>
                </a:solidFill>
                <a:latin typeface="Times New Roman"/>
              </a:rPr>
              <a:t>O Alpha Server 4100 da Digital é um dos mais importantes SMP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00"/>
                </a:solidFill>
                <a:latin typeface="Times New Roman"/>
              </a:rPr>
              <a:t>(Symmetric Multiprocessing), com 4-processadores de alto desempenho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913320" y="2971800"/>
            <a:ext cx="860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00"/>
                </a:solidFill>
                <a:latin typeface="Times New Roman"/>
              </a:rPr>
              <a:t>Modelo 5/300E, 4 DEC 21164 de 300 MHz sem Cache L3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00"/>
                </a:solidFill>
                <a:latin typeface="Times New Roman"/>
              </a:rPr>
              <a:t>Modelo 5/300, Idem e Cache L3 de 2 Mbytes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00"/>
                </a:solidFill>
                <a:latin typeface="Times New Roman"/>
              </a:rPr>
              <a:t>Modelo 5/400,   4 DEC 21164 de 400 MHz e Cache L3 de 4 Mbytes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92560" y="4537080"/>
            <a:ext cx="7972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00"/>
                </a:solidFill>
                <a:latin typeface="Times New Roman"/>
              </a:rPr>
              <a:t>Programas Usados: 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333300"/>
                </a:solidFill>
                <a:latin typeface="Times New Roman"/>
              </a:rPr>
              <a:t>TPC-C</a:t>
            </a:r>
            <a:r>
              <a:rPr b="0" lang="pt-BR" sz="24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333300"/>
                </a:solidFill>
                <a:latin typeface="Times New Roman"/>
              </a:rPr>
              <a:t>AIM Suite II</a:t>
            </a:r>
            <a:r>
              <a:rPr b="0" lang="pt-BR" sz="24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333300"/>
                </a:solidFill>
                <a:latin typeface="Times New Roman"/>
              </a:rPr>
              <a:t>Comercia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333300"/>
                </a:solidFill>
                <a:latin typeface="Times New Roman"/>
              </a:rPr>
              <a:t>LINPACK</a:t>
            </a:r>
            <a:r>
              <a:rPr b="0" lang="pt-BR" sz="24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333300"/>
                </a:solidFill>
                <a:latin typeface="Times New Roman"/>
              </a:rPr>
              <a:t>SPEC</a:t>
            </a:r>
            <a:r>
              <a:rPr b="0" lang="pt-BR" sz="24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333300"/>
                </a:solidFill>
                <a:latin typeface="Times New Roman"/>
              </a:rPr>
              <a:t>Científico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105520" y="5029200"/>
            <a:ext cx="1600200" cy="533520"/>
          </a:xfrm>
          <a:prstGeom prst="leftArrow">
            <a:avLst>
              <a:gd name="adj1" fmla="val 50000"/>
              <a:gd name="adj2" fmla="val 74983"/>
            </a:avLst>
          </a:prstGeom>
          <a:solidFill>
            <a:srgbClr val="ff9933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Fig1" descr=""/>
          <p:cNvPicPr/>
          <p:nvPr/>
        </p:nvPicPr>
        <p:blipFill>
          <a:blip r:embed="rId1"/>
          <a:stretch/>
        </p:blipFill>
        <p:spPr>
          <a:xfrm>
            <a:off x="304920" y="1752480"/>
            <a:ext cx="3733560" cy="434340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297360" y="304920"/>
            <a:ext cx="9332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99"/>
                </a:solidFill>
                <a:latin typeface="Times New Roman"/>
              </a:rPr>
              <a:t>Benchmark IMBENCH: latência “load” de memória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Fig2" descr=""/>
          <p:cNvPicPr/>
          <p:nvPr/>
        </p:nvPicPr>
        <p:blipFill>
          <a:blip r:embed="rId1"/>
          <a:stretch/>
        </p:blipFill>
        <p:spPr>
          <a:xfrm>
            <a:off x="304920" y="1905120"/>
            <a:ext cx="4267080" cy="4190760"/>
          </a:xfrm>
          <a:prstGeom prst="rect">
            <a:avLst/>
          </a:prstGeom>
          <a:ln w="0">
            <a:noFill/>
          </a:ln>
        </p:spPr>
      </p:pic>
      <p:pic>
        <p:nvPicPr>
          <p:cNvPr id="250" name="Fig3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876920" cy="441972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510840" y="399960"/>
            <a:ext cx="793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99"/>
                </a:solidFill>
                <a:latin typeface="Times New Roman"/>
              </a:rPr>
              <a:t>Latência e Bandwidth para várias Máquinas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955040" y="6172200"/>
            <a:ext cx="233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00"/>
                </a:solidFill>
                <a:latin typeface="Times New Roman"/>
              </a:rPr>
              <a:t>Número de CPU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346480" y="5527800"/>
            <a:ext cx="2001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00"/>
                </a:solidFill>
                <a:latin typeface="Times New Roman"/>
              </a:rPr>
              <a:t>Tamanho Conj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00"/>
                </a:solidFill>
                <a:latin typeface="Times New Roman"/>
              </a:rPr>
              <a:t>de Dado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Fig4" descr=""/>
          <p:cNvPicPr/>
          <p:nvPr/>
        </p:nvPicPr>
        <p:blipFill>
          <a:blip r:embed="rId1"/>
          <a:stretch/>
        </p:blipFill>
        <p:spPr>
          <a:xfrm>
            <a:off x="380880" y="1600200"/>
            <a:ext cx="5029200" cy="464832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>
            <a:off x="510120" y="324000"/>
            <a:ext cx="7095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99"/>
                </a:solidFill>
                <a:latin typeface="Times New Roman"/>
              </a:rPr>
              <a:t>Comparação de performance: SPEC-95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Fig5" descr=""/>
          <p:cNvPicPr/>
          <p:nvPr/>
        </p:nvPicPr>
        <p:blipFill>
          <a:blip r:embed="rId1"/>
          <a:stretch/>
        </p:blipFill>
        <p:spPr>
          <a:xfrm>
            <a:off x="304920" y="1905120"/>
            <a:ext cx="4429080" cy="3962160"/>
          </a:xfrm>
          <a:prstGeom prst="rect">
            <a:avLst/>
          </a:prstGeom>
          <a:ln w="0">
            <a:noFill/>
          </a:ln>
        </p:spPr>
      </p:pic>
      <p:pic>
        <p:nvPicPr>
          <p:cNvPr id="257" name="Fig6" descr=""/>
          <p:cNvPicPr/>
          <p:nvPr/>
        </p:nvPicPr>
        <p:blipFill>
          <a:blip r:embed="rId2"/>
          <a:stretch/>
        </p:blipFill>
        <p:spPr>
          <a:xfrm>
            <a:off x="4876920" y="1752480"/>
            <a:ext cx="4657680" cy="411480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356760" y="247680"/>
            <a:ext cx="934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99"/>
                </a:solidFill>
                <a:latin typeface="Times New Roman"/>
              </a:rPr>
              <a:t>Resultados de Velocidade e Throughput do SPEC-95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514240" y="6172200"/>
            <a:ext cx="157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00"/>
                </a:solidFill>
                <a:latin typeface="Times New Roman"/>
              </a:rPr>
              <a:t>Velocidad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20280" y="6095880"/>
            <a:ext cx="16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00"/>
                </a:solidFill>
                <a:latin typeface="Times New Roman"/>
              </a:rPr>
              <a:t>Throughpu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191120" y="5486400"/>
            <a:ext cx="228600" cy="914400"/>
          </a:xfrm>
          <a:prstGeom prst="upArrow">
            <a:avLst>
              <a:gd name="adj1" fmla="val 50000"/>
              <a:gd name="adj2" fmla="val 100000"/>
            </a:avLst>
          </a:prstGeom>
          <a:solidFill>
            <a:srgbClr val="ff9933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334120" y="5867280"/>
            <a:ext cx="380880" cy="533520"/>
          </a:xfrm>
          <a:prstGeom prst="upArrow">
            <a:avLst>
              <a:gd name="adj1" fmla="val 50000"/>
              <a:gd name="adj2" fmla="val 35019"/>
            </a:avLst>
          </a:prstGeom>
          <a:solidFill>
            <a:srgbClr val="ff9933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table1" descr=""/>
          <p:cNvPicPr/>
          <p:nvPr/>
        </p:nvPicPr>
        <p:blipFill>
          <a:blip r:embed="rId1"/>
          <a:stretch/>
        </p:blipFill>
        <p:spPr>
          <a:xfrm>
            <a:off x="380880" y="1828800"/>
            <a:ext cx="4496040" cy="43560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519480" y="196920"/>
            <a:ext cx="895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3399"/>
                </a:solidFill>
                <a:latin typeface="Times New Roman"/>
              </a:rPr>
              <a:t>Características do Sistema Estudado: Parte I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803840" y="1676520"/>
            <a:ext cx="464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00"/>
                </a:solidFill>
                <a:latin typeface="Times New Roman"/>
              </a:rPr>
              <a:t>O processador central do sist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00"/>
                </a:solidFill>
                <a:latin typeface="Times New Roman"/>
              </a:rPr>
              <a:t>DEC 7000 AXP é o DECchip 21064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641480" y="2743200"/>
            <a:ext cx="5024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00"/>
                </a:solidFill>
                <a:latin typeface="Times New Roman"/>
              </a:rPr>
              <a:t>Uma unidade inteira pipeline de 64-bi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00"/>
                </a:solidFill>
                <a:latin typeface="Times New Roman"/>
              </a:rPr>
              <a:t>com um arquivo de registros de 32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00"/>
                </a:solidFill>
                <a:latin typeface="Times New Roman"/>
              </a:rPr>
              <a:t>entradas, Uma unidade de PF 32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00"/>
                </a:solidFill>
                <a:latin typeface="Times New Roman"/>
              </a:rPr>
              <a:t>registradores, uma unidade Load/store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00"/>
                </a:solidFill>
                <a:latin typeface="Times New Roman"/>
              </a:rPr>
              <a:t>Uma unidade de predição de branch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413600" y="4800600"/>
            <a:ext cx="52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00"/>
                </a:solidFill>
                <a:latin typeface="Times New Roman"/>
              </a:rPr>
              <a:t>A CPU é superescalar e superpipelined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00"/>
                </a:solidFill>
                <a:latin typeface="Times New Roman"/>
              </a:rPr>
              <a:t>com uma unidade 7-estágios de pipelin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00"/>
                </a:solidFill>
                <a:latin typeface="Times New Roman"/>
              </a:rPr>
              <a:t>e uma unidade 10-estágios pipeline PF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Fig7" descr=""/>
          <p:cNvPicPr/>
          <p:nvPr/>
        </p:nvPicPr>
        <p:blipFill>
          <a:blip r:embed="rId1"/>
          <a:stretch/>
        </p:blipFill>
        <p:spPr>
          <a:xfrm>
            <a:off x="304920" y="1905120"/>
            <a:ext cx="3886200" cy="397188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/>
          <p:nvPr/>
        </p:nvSpPr>
        <p:spPr>
          <a:xfrm>
            <a:off x="283320" y="247680"/>
            <a:ext cx="668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99"/>
                </a:solidFill>
                <a:latin typeface="Times New Roman"/>
              </a:rPr>
              <a:t>Escalabilidade para SPEC95 Int e FP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5" name="Fig8" descr=""/>
          <p:cNvPicPr/>
          <p:nvPr/>
        </p:nvPicPr>
        <p:blipFill>
          <a:blip r:embed="rId2"/>
          <a:stretch/>
        </p:blipFill>
        <p:spPr>
          <a:xfrm>
            <a:off x="4724280" y="1905120"/>
            <a:ext cx="446724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299880" y="228600"/>
            <a:ext cx="5987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99"/>
                </a:solidFill>
                <a:latin typeface="Times New Roman"/>
              </a:rPr>
              <a:t>Escalablidade Versão paralela do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lang="pt-BR" sz="3200" spc="-1" strike="noStrike">
                <a:solidFill>
                  <a:srgbClr val="003399"/>
                </a:solidFill>
                <a:latin typeface="Times New Roman"/>
              </a:rPr>
              <a:t>LINPACK e SPEC-95 FP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7" name="Fig9" descr=""/>
          <p:cNvPicPr/>
          <p:nvPr/>
        </p:nvPicPr>
        <p:blipFill>
          <a:blip r:embed="rId1"/>
          <a:stretch/>
        </p:blipFill>
        <p:spPr>
          <a:xfrm>
            <a:off x="304920" y="1752480"/>
            <a:ext cx="4114800" cy="3962520"/>
          </a:xfrm>
          <a:prstGeom prst="rect">
            <a:avLst/>
          </a:prstGeom>
          <a:ln w="0">
            <a:noFill/>
          </a:ln>
        </p:spPr>
      </p:pic>
      <p:pic>
        <p:nvPicPr>
          <p:cNvPr id="268" name="Fig10" descr=""/>
          <p:cNvPicPr/>
          <p:nvPr/>
        </p:nvPicPr>
        <p:blipFill>
          <a:blip r:embed="rId2"/>
          <a:stretch/>
        </p:blipFill>
        <p:spPr>
          <a:xfrm>
            <a:off x="4724280" y="1905120"/>
            <a:ext cx="4267440" cy="403848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2501640" y="613728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00"/>
                </a:solidFill>
                <a:latin typeface="Times New Roman"/>
              </a:rPr>
              <a:t>LINPAC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809880" y="4572000"/>
            <a:ext cx="304920" cy="1600200"/>
          </a:xfrm>
          <a:prstGeom prst="upArrow">
            <a:avLst>
              <a:gd name="adj1" fmla="val 50000"/>
              <a:gd name="adj2" fmla="val 131198"/>
            </a:avLst>
          </a:prstGeom>
          <a:solidFill>
            <a:srgbClr val="ff9933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8003520" y="5943600"/>
            <a:ext cx="163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8000"/>
                </a:solidFill>
                <a:latin typeface="Times New Roman"/>
              </a:rPr>
              <a:t>SPECfp-95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8077320" y="4876920"/>
            <a:ext cx="533160" cy="1066680"/>
          </a:xfrm>
          <a:prstGeom prst="upArrow">
            <a:avLst>
              <a:gd name="adj1" fmla="val 50000"/>
              <a:gd name="adj2" fmla="val 50017"/>
            </a:avLst>
          </a:prstGeom>
          <a:solidFill>
            <a:srgbClr val="ff9933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299520" y="228600"/>
            <a:ext cx="7194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99"/>
                </a:solidFill>
                <a:latin typeface="Times New Roman"/>
              </a:rPr>
              <a:t>Throughput em Aplicações Comerciais: 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99"/>
                </a:solidFill>
                <a:latin typeface="Times New Roman"/>
              </a:rPr>
              <a:t>TPC-C &amp; AIM Suite II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74" name="Fig11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4343400" cy="4038480"/>
          </a:xfrm>
          <a:prstGeom prst="rect">
            <a:avLst/>
          </a:prstGeom>
          <a:ln w="0">
            <a:noFill/>
          </a:ln>
        </p:spPr>
      </p:pic>
      <p:pic>
        <p:nvPicPr>
          <p:cNvPr id="275" name="Fig12" descr=""/>
          <p:cNvPicPr/>
          <p:nvPr/>
        </p:nvPicPr>
        <p:blipFill>
          <a:blip r:embed="rId2"/>
          <a:stretch/>
        </p:blipFill>
        <p:spPr>
          <a:xfrm>
            <a:off x="4724280" y="1905120"/>
            <a:ext cx="4457880" cy="388620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2669760" y="6172200"/>
            <a:ext cx="111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8000"/>
                </a:solidFill>
                <a:latin typeface="Times New Roman"/>
              </a:rPr>
              <a:t>TPC-C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691680" y="6137280"/>
            <a:ext cx="80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8000"/>
                </a:solidFill>
                <a:latin typeface="Times New Roman"/>
              </a:rPr>
              <a:t>AIM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962520" y="5715000"/>
            <a:ext cx="457200" cy="838080"/>
          </a:xfrm>
          <a:prstGeom prst="upArrow">
            <a:avLst>
              <a:gd name="adj1" fmla="val 50000"/>
              <a:gd name="adj2" fmla="val 45827"/>
            </a:avLst>
          </a:prstGeom>
          <a:solidFill>
            <a:srgbClr val="ff9933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86400" y="5791320"/>
            <a:ext cx="914400" cy="8380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9933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586800" y="324000"/>
            <a:ext cx="787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99"/>
                </a:solidFill>
                <a:latin typeface="Times New Roman"/>
              </a:rPr>
              <a:t>Impacto da Memória Cache: L3 de 2Mbytes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1" name="Fig13" descr=""/>
          <p:cNvPicPr/>
          <p:nvPr/>
        </p:nvPicPr>
        <p:blipFill>
          <a:blip r:embed="rId1"/>
          <a:stretch/>
        </p:blipFill>
        <p:spPr>
          <a:xfrm>
            <a:off x="304920" y="1828800"/>
            <a:ext cx="3962160" cy="4191120"/>
          </a:xfrm>
          <a:prstGeom prst="rect">
            <a:avLst/>
          </a:prstGeom>
          <a:ln w="0">
            <a:noFill/>
          </a:ln>
        </p:spPr>
      </p:pic>
      <p:pic>
        <p:nvPicPr>
          <p:cNvPr id="282" name="Fig14" descr=""/>
          <p:cNvPicPr/>
          <p:nvPr/>
        </p:nvPicPr>
        <p:blipFill>
          <a:blip r:embed="rId2"/>
          <a:stretch/>
        </p:blipFill>
        <p:spPr>
          <a:xfrm>
            <a:off x="4648320" y="1905120"/>
            <a:ext cx="4647960" cy="403848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/>
          <p:nvPr/>
        </p:nvSpPr>
        <p:spPr>
          <a:xfrm>
            <a:off x="6158880" y="6137280"/>
            <a:ext cx="136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8000"/>
                </a:solidFill>
                <a:latin typeface="Times New Roman"/>
              </a:rPr>
              <a:t>SPEC-95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334120" y="5943600"/>
            <a:ext cx="609480" cy="6094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9933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423880" y="6213600"/>
            <a:ext cx="10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8000"/>
                </a:solidFill>
                <a:latin typeface="Times New Roman"/>
              </a:rPr>
              <a:t>Vário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657600" y="6019920"/>
            <a:ext cx="457200" cy="4572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9933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266760" y="228600"/>
            <a:ext cx="6926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336699"/>
                </a:solidFill>
                <a:latin typeface="Times New Roman"/>
              </a:rPr>
              <a:t>Grandes Aplicações Científicas</a:t>
            </a:r>
            <a:endParaRPr b="0" lang="en-US" sz="40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8" name="Fig15" descr=""/>
          <p:cNvPicPr/>
          <p:nvPr/>
        </p:nvPicPr>
        <p:blipFill>
          <a:blip r:embed="rId1"/>
          <a:stretch/>
        </p:blipFill>
        <p:spPr>
          <a:xfrm>
            <a:off x="304920" y="1828800"/>
            <a:ext cx="4647960" cy="3886200"/>
          </a:xfrm>
          <a:prstGeom prst="rect">
            <a:avLst/>
          </a:prstGeom>
          <a:ln w="0">
            <a:noFill/>
          </a:ln>
        </p:spPr>
      </p:pic>
      <p:pic>
        <p:nvPicPr>
          <p:cNvPr id="289" name="Fig16" descr=""/>
          <p:cNvPicPr/>
          <p:nvPr/>
        </p:nvPicPr>
        <p:blipFill>
          <a:blip r:embed="rId2"/>
          <a:stretch/>
        </p:blipFill>
        <p:spPr>
          <a:xfrm>
            <a:off x="5181480" y="1828800"/>
            <a:ext cx="4429080" cy="350532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/>
          <p:nvPr/>
        </p:nvSpPr>
        <p:spPr>
          <a:xfrm>
            <a:off x="2443680" y="6095880"/>
            <a:ext cx="282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8000"/>
                </a:solidFill>
                <a:latin typeface="Times New Roman"/>
              </a:rPr>
              <a:t>SPARSE LINPAC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600200" y="5867280"/>
            <a:ext cx="762120" cy="4572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9933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563080" y="5791320"/>
            <a:ext cx="203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8000"/>
                </a:solidFill>
                <a:latin typeface="Times New Roman"/>
              </a:rPr>
              <a:t>Renderização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8000"/>
                </a:solidFill>
                <a:latin typeface="Times New Roman"/>
              </a:rPr>
              <a:t>de Imagen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7543800" y="5486400"/>
            <a:ext cx="685800" cy="914400"/>
          </a:xfrm>
          <a:prstGeom prst="upArrow">
            <a:avLst>
              <a:gd name="adj1" fmla="val 50000"/>
              <a:gd name="adj2" fmla="val 33333"/>
            </a:avLst>
          </a:prstGeom>
          <a:solidFill>
            <a:srgbClr val="ff9933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222480" y="282600"/>
            <a:ext cx="735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99"/>
                </a:solidFill>
                <a:latin typeface="Times New Roman"/>
              </a:rPr>
              <a:t>Comparação do CPI e Tempos de Espera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95" name="Fig17" descr=""/>
          <p:cNvPicPr/>
          <p:nvPr/>
        </p:nvPicPr>
        <p:blipFill>
          <a:blip r:embed="rId1"/>
          <a:stretch/>
        </p:blipFill>
        <p:spPr>
          <a:xfrm>
            <a:off x="304920" y="1828800"/>
            <a:ext cx="4038480" cy="4191120"/>
          </a:xfrm>
          <a:prstGeom prst="rect">
            <a:avLst/>
          </a:prstGeom>
          <a:ln w="0">
            <a:noFill/>
          </a:ln>
        </p:spPr>
      </p:pic>
      <p:pic>
        <p:nvPicPr>
          <p:cNvPr id="296" name="Fig18" descr=""/>
          <p:cNvPicPr/>
          <p:nvPr/>
        </p:nvPicPr>
        <p:blipFill>
          <a:blip r:embed="rId2"/>
          <a:stretch/>
        </p:blipFill>
        <p:spPr>
          <a:xfrm>
            <a:off x="4648320" y="1905120"/>
            <a:ext cx="472428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377640" y="206280"/>
            <a:ext cx="630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99"/>
                </a:solidFill>
                <a:latin typeface="Times New Roman"/>
              </a:rPr>
              <a:t>Perfil de Instruções e Cache Misses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98" name="Fig19" descr=""/>
          <p:cNvPicPr/>
          <p:nvPr/>
        </p:nvPicPr>
        <p:blipFill>
          <a:blip r:embed="rId1"/>
          <a:stretch/>
        </p:blipFill>
        <p:spPr>
          <a:xfrm>
            <a:off x="228600" y="1752480"/>
            <a:ext cx="4419720" cy="4191120"/>
          </a:xfrm>
          <a:prstGeom prst="rect">
            <a:avLst/>
          </a:prstGeom>
          <a:ln w="0">
            <a:noFill/>
          </a:ln>
        </p:spPr>
      </p:pic>
      <p:pic>
        <p:nvPicPr>
          <p:cNvPr id="299" name="Fig20" descr=""/>
          <p:cNvPicPr/>
          <p:nvPr/>
        </p:nvPicPr>
        <p:blipFill>
          <a:blip r:embed="rId2"/>
          <a:stretch/>
        </p:blipFill>
        <p:spPr>
          <a:xfrm>
            <a:off x="4724280" y="1905120"/>
            <a:ext cx="45244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591840" y="247680"/>
            <a:ext cx="548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99"/>
                </a:solidFill>
                <a:latin typeface="Times New Roman"/>
              </a:rPr>
              <a:t>Branches e Esperas Estimadas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1" name="Fig21" descr=""/>
          <p:cNvPicPr/>
          <p:nvPr/>
        </p:nvPicPr>
        <p:blipFill>
          <a:blip r:embed="rId1"/>
          <a:stretch/>
        </p:blipFill>
        <p:spPr>
          <a:xfrm>
            <a:off x="304920" y="1828800"/>
            <a:ext cx="4343400" cy="4191120"/>
          </a:xfrm>
          <a:prstGeom prst="rect">
            <a:avLst/>
          </a:prstGeom>
          <a:ln w="0">
            <a:noFill/>
          </a:ln>
        </p:spPr>
      </p:pic>
      <p:pic>
        <p:nvPicPr>
          <p:cNvPr id="302" name="Fig22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610160" cy="41911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75800" y="6039000"/>
            <a:ext cx="146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8000"/>
                </a:solidFill>
                <a:latin typeface="Times New Roman"/>
              </a:rPr>
              <a:t>Branch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191120" y="5638680"/>
            <a:ext cx="304560" cy="990720"/>
          </a:xfrm>
          <a:prstGeom prst="upArrow">
            <a:avLst>
              <a:gd name="adj1" fmla="val 50000"/>
              <a:gd name="adj2" fmla="val 81324"/>
            </a:avLst>
          </a:prstGeom>
          <a:solidFill>
            <a:srgbClr val="ff9933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391160" y="2362320"/>
            <a:ext cx="225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8000"/>
                </a:solidFill>
                <a:latin typeface="Times New Roman"/>
              </a:rPr>
              <a:t>Usando Modelo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8000"/>
                </a:solidFill>
                <a:latin typeface="Times New Roman"/>
              </a:rPr>
              <a:t>de Performanc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294840" y="1752480"/>
            <a:ext cx="878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00"/>
                </a:solidFill>
                <a:latin typeface="Times New Roman"/>
              </a:rPr>
              <a:t>O cache de segundo nível (Bcache), usa uma política write-back, e um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00"/>
                </a:solidFill>
                <a:latin typeface="Times New Roman"/>
              </a:rPr>
              <a:t>protocolo de coerência de cache “atualização condicional”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936720" y="2666880"/>
            <a:ext cx="8983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00"/>
                </a:solidFill>
                <a:latin typeface="Times New Roman"/>
              </a:rPr>
              <a:t>Numa operação “write miss”, a um bloco contendo dados modificados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00"/>
                </a:solidFill>
                <a:latin typeface="Times New Roman"/>
              </a:rPr>
              <a:t>o bloco de cache não existente é armazenado num “victim buffer” local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00"/>
                </a:solidFill>
                <a:latin typeface="Times New Roman"/>
              </a:rPr>
              <a:t>enquanto o novo bloco é lido (assim, o dado vítima é escrito de volt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00"/>
                </a:solidFill>
                <a:latin typeface="Times New Roman"/>
              </a:rPr>
              <a:t>à memória, numa operação de background)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14200" y="4267080"/>
            <a:ext cx="892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00"/>
                </a:solidFill>
                <a:latin typeface="Times New Roman"/>
              </a:rPr>
              <a:t>A coerência é implementada de maneira a diminuir o problema de falso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00"/>
                </a:solidFill>
                <a:latin typeface="Times New Roman"/>
              </a:rPr>
              <a:t>compartilhamento, atualizando somente os dados com referência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00"/>
                </a:solidFill>
                <a:latin typeface="Times New Roman"/>
              </a:rPr>
              <a:t>mais frequentes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98800" y="5638680"/>
            <a:ext cx="9106920" cy="4597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0066"/>
                </a:solidFill>
                <a:latin typeface="Times New Roman"/>
              </a:rPr>
              <a:t>Há contadores especiais em HW para monitorar eventos de interes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06720" y="304920"/>
            <a:ext cx="457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3399"/>
                </a:solidFill>
                <a:latin typeface="Times New Roman"/>
              </a:rPr>
              <a:t>Detalhes do Hardware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460080" y="304920"/>
            <a:ext cx="7099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3399"/>
                </a:solidFill>
                <a:latin typeface="Times New Roman"/>
              </a:rPr>
              <a:t>Descrição do Workload Comerciais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04920" y="2133720"/>
            <a:ext cx="9219960" cy="28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1" lang="pt-BR" sz="3200" spc="-1" strike="noStrike">
                <a:solidFill>
                  <a:srgbClr val="a73737"/>
                </a:solidFill>
                <a:latin typeface="Times New Roman"/>
              </a:rPr>
              <a:t>TP1:</a:t>
            </a:r>
            <a:r>
              <a:rPr b="0" lang="pt-BR" sz="2400" spc="-1" strike="noStrike">
                <a:solidFill>
                  <a:srgbClr val="333300"/>
                </a:solidFill>
                <a:latin typeface="Times New Roman"/>
              </a:rPr>
              <a:t> Debit-credit, similar aos TPC-A.  Representativo de apps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00"/>
                </a:solidFill>
                <a:latin typeface="Times New Roman"/>
              </a:rPr>
              <a:t>OLTP “On Line Transaction Processing”, e coleta as atividades de uma rede de bancos. Inclui leituras e escritas a banco de dados, terminais de I/O, e diferentes transações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1" lang="pt-BR" sz="3200" spc="-1" strike="noStrike">
                <a:solidFill>
                  <a:srgbClr val="a73737"/>
                </a:solidFill>
                <a:latin typeface="Times New Roman"/>
              </a:rPr>
              <a:t>SORT:</a:t>
            </a:r>
            <a:r>
              <a:rPr b="0" lang="pt-BR" sz="2400" spc="-1" strike="noStrike">
                <a:solidFill>
                  <a:srgbClr val="333300"/>
                </a:solidFill>
                <a:latin typeface="Times New Roman"/>
              </a:rPr>
              <a:t>  Típico de batch comerciais, operações disco-disco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00"/>
                </a:solidFill>
                <a:latin typeface="Times New Roman"/>
              </a:rPr>
              <a:t>Sort registros de 100-bytes em banco de dados de 100 Mbytes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459720" y="304920"/>
            <a:ext cx="697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3399"/>
                </a:solidFill>
                <a:latin typeface="Times New Roman"/>
              </a:rPr>
              <a:t>Descrição do Workload Científicos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97720" y="1676520"/>
            <a:ext cx="9309600" cy="48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a73737"/>
                </a:solidFill>
                <a:latin typeface="Times New Roman"/>
              </a:rPr>
              <a:t>SPEC CINT92:</a:t>
            </a:r>
            <a:r>
              <a:rPr b="0" lang="pt-BR" sz="2400" spc="-1" strike="noStrike">
                <a:solidFill>
                  <a:srgbClr val="333300"/>
                </a:solidFill>
                <a:latin typeface="Times New Roman"/>
              </a:rPr>
              <a:t>  Conjunto de Operações Inteiras. Seis Benchmark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333300"/>
                </a:solidFill>
                <a:latin typeface="Times New Roman"/>
              </a:rPr>
              <a:t>em C. </a:t>
            </a:r>
            <a:r>
              <a:rPr b="0" lang="pt-BR" sz="24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333300"/>
                </a:solidFill>
                <a:latin typeface="Times New Roman"/>
              </a:rPr>
              <a:t>Análise de circuitos, interpretador LISP, Projeto Lógico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333300"/>
                </a:solidFill>
                <a:latin typeface="Times New Roman"/>
              </a:rPr>
              <a:t>compressão de textos, spread-sheet, desenvolvimento de software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a73737"/>
                </a:solidFill>
                <a:latin typeface="Times New Roman"/>
              </a:rPr>
              <a:t>SPEC CFP92:</a:t>
            </a:r>
            <a:r>
              <a:rPr b="0" lang="pt-BR" sz="2400" spc="-1" strike="noStrike">
                <a:solidFill>
                  <a:srgbClr val="333300"/>
                </a:solidFill>
                <a:latin typeface="Times New Roman"/>
              </a:rPr>
              <a:t>  Consiste de 14 benchmarks com operações PF.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333300"/>
                </a:solidFill>
                <a:latin typeface="Times New Roman"/>
              </a:rPr>
              <a:t>2 escritos em C e os 12 restantes em Fortran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333300"/>
                </a:solidFill>
                <a:latin typeface="Times New Roman"/>
              </a:rPr>
              <a:t>Representa aplicações da área de projeto de circuitos, simulação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333300"/>
                </a:solidFill>
                <a:latin typeface="Times New Roman"/>
              </a:rPr>
              <a:t>Monte Carlo, Química quantica, Ótica, Robótica, Física quantica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333300"/>
                </a:solidFill>
                <a:latin typeface="Times New Roman"/>
              </a:rPr>
              <a:t>Astrofísica, predição de Tempo, e Outros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a73737"/>
                </a:solidFill>
                <a:latin typeface="Times New Roman"/>
              </a:rPr>
              <a:t>LINPACK 1000.</a:t>
            </a:r>
            <a:r>
              <a:rPr b="0" lang="pt-BR" sz="2400" spc="-1" strike="noStrike">
                <a:solidFill>
                  <a:srgbClr val="333300"/>
                </a:solidFill>
                <a:latin typeface="Times New Roman"/>
              </a:rPr>
              <a:t>  Resolve equações lineares 1000x1000, em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333300"/>
                </a:solidFill>
                <a:latin typeface="Times New Roman"/>
              </a:rPr>
              <a:t>Fortran pela </a:t>
            </a:r>
            <a:r>
              <a:rPr b="0" lang="pt-BR" sz="24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333300"/>
                </a:solidFill>
                <a:latin typeface="Times New Roman"/>
              </a:rPr>
              <a:t>Argonne National Laboratories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fig1" descr=""/>
          <p:cNvPicPr/>
          <p:nvPr/>
        </p:nvPicPr>
        <p:blipFill>
          <a:blip r:embed="rId1"/>
          <a:stretch/>
        </p:blipFill>
        <p:spPr>
          <a:xfrm>
            <a:off x="304920" y="1676520"/>
            <a:ext cx="4038480" cy="458136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442440" y="272880"/>
            <a:ext cx="419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3399"/>
                </a:solidFill>
                <a:latin typeface="Times New Roman"/>
              </a:rPr>
              <a:t>Comparação do CPI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669040" y="6143760"/>
            <a:ext cx="5458320" cy="5205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a73737"/>
                </a:solidFill>
                <a:latin typeface="Times New Roman"/>
              </a:rPr>
              <a:t>Aplicações Comerciais: Maior CPI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733920" y="5181480"/>
            <a:ext cx="838080" cy="990720"/>
          </a:xfrm>
          <a:prstGeom prst="downArrow">
            <a:avLst>
              <a:gd name="adj1" fmla="val 50000"/>
              <a:gd name="adj2" fmla="val 29553"/>
            </a:avLst>
          </a:prstGeom>
          <a:solidFill>
            <a:srgbClr val="ff9933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971800" y="5181480"/>
            <a:ext cx="838080" cy="0"/>
          </a:xfrm>
          <a:prstGeom prst="line">
            <a:avLst/>
          </a:prstGeom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327920" y="1793880"/>
            <a:ext cx="465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00"/>
                </a:solidFill>
                <a:latin typeface="Times New Roman"/>
              </a:rPr>
              <a:t>TPC-b1 e TPC-b2, 2 banco de dado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00"/>
                </a:solidFill>
                <a:latin typeface="Times New Roman"/>
              </a:rPr>
              <a:t>diferentes,  comportamento similar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322520" y="2860560"/>
            <a:ext cx="5420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00"/>
                </a:solidFill>
                <a:latin typeface="Times New Roman"/>
              </a:rPr>
              <a:t>O mínimo teórico de uma máquin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00"/>
                </a:solidFill>
                <a:latin typeface="Times New Roman"/>
              </a:rPr>
              <a:t>dual-issue é 0.5.  Não obstante, o CPI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00"/>
                </a:solidFill>
                <a:latin typeface="Times New Roman"/>
              </a:rPr>
              <a:t>da maioria das aplicações é 2-4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00"/>
                </a:solidFill>
                <a:latin typeface="Times New Roman"/>
              </a:rPr>
              <a:t>Explicação: cache misses, branch, 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333300"/>
                </a:solidFill>
                <a:latin typeface="Times New Roman"/>
              </a:rPr>
              <a:t>dependência de dados inter-instruc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474440" y="4994280"/>
            <a:ext cx="5014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00"/>
                </a:solidFill>
                <a:latin typeface="Times New Roman"/>
              </a:rPr>
              <a:t>Máquinas superpipelined, oferecem um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00"/>
                </a:solidFill>
                <a:latin typeface="Times New Roman"/>
              </a:rPr>
              <a:t>clock maior mas um grande pipelin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00"/>
                </a:solidFill>
                <a:latin typeface="Times New Roman"/>
              </a:rPr>
              <a:t>que pode trazer efeitos negativos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fig2" descr=""/>
          <p:cNvPicPr/>
          <p:nvPr/>
        </p:nvPicPr>
        <p:blipFill>
          <a:blip r:embed="rId1"/>
          <a:stretch/>
        </p:blipFill>
        <p:spPr>
          <a:xfrm>
            <a:off x="304920" y="1676520"/>
            <a:ext cx="4114800" cy="445932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444960" y="349200"/>
            <a:ext cx="750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3399"/>
                </a:solidFill>
                <a:latin typeface="Times New Roman"/>
              </a:rPr>
              <a:t>Porcentagem do Sistema Operacional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642560" y="2133720"/>
            <a:ext cx="48884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00"/>
                </a:solidFill>
                <a:latin typeface="Times New Roman"/>
              </a:rPr>
              <a:t>Workloads comerciais envolvem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00"/>
                </a:solidFill>
                <a:latin typeface="Times New Roman"/>
              </a:rPr>
              <a:t>alta atividade do sistema operacional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00"/>
                </a:solidFill>
                <a:latin typeface="Times New Roman"/>
              </a:rPr>
              <a:t>muito mais do que as apps. Científica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00"/>
                </a:solidFill>
                <a:latin typeface="Times New Roman"/>
              </a:rPr>
              <a:t>(veja o SPEC-92)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00"/>
                </a:solidFill>
                <a:latin typeface="Times New Roman"/>
              </a:rPr>
              <a:t>WCO:  20-24% no espaço do sistema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00"/>
                </a:solidFill>
                <a:latin typeface="Times New Roman"/>
              </a:rPr>
              <a:t>WCI:  Muito pouco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418280" y="5105520"/>
            <a:ext cx="3198240" cy="11912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a73737"/>
                </a:solidFill>
                <a:latin typeface="Times New Roman"/>
              </a:rPr>
              <a:t>Aplicações Comerciais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a73737"/>
                </a:solidFill>
                <a:latin typeface="Times New Roman"/>
              </a:rPr>
              <a:t>Maior atividade do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a73737"/>
                </a:solidFill>
                <a:latin typeface="Times New Roman"/>
              </a:rPr>
              <a:t>Sistema Operaciona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9T19:53:33Z</dcterms:created>
  <dc:creator>Edward D. Moreno</dc:creator>
  <dc:description/>
  <dc:language>en-US</dc:language>
  <cp:lastModifiedBy>Edward Moreno</cp:lastModifiedBy>
  <dcterms:modified xsi:type="dcterms:W3CDTF">1999-12-06T14:53:48Z</dcterms:modified>
  <cp:revision>113</cp:revision>
  <dc:subject/>
  <dc:title>Slide sem título </dc:title>
</cp:coreProperties>
</file>